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EBF-2502-435B-93BB-332F9BFB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26D-F01E-46DA-A6EC-13C13C29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3BD2-2DEC-461E-94C6-CCACBDA1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A84-C640-4D10-80A5-507D4B1E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04F-EC2D-4DDC-AFAC-7590B5F7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D38-08A8-4139-AE9B-8736224C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FDD-BEEF-462C-83A9-3C75526A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CFF-526E-4037-A0CE-0C7DB00F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9A9-F28B-4FC9-904B-66E5BB4D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D3D0-0C74-4125-A73C-DE8506A9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426A-7794-4926-AF9F-00D6E31E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A653-D19B-4202-A7A2-BD06BFA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218E-A4EF-4CAE-B9C3-C9CE2804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7"/>
          <p:cNvGrpSpPr/>
          <p:nvPr/>
        </p:nvGrpSpPr>
        <p:grpSpPr>
          <a:xfrm>
            <a:off x="73080" y="101520"/>
            <a:ext cx="9036000" cy="6640560"/>
            <a:chOff x="73080" y="101520"/>
            <a:chExt cx="9036000" cy="6640560"/>
          </a:xfrm>
        </p:grpSpPr>
        <p:sp>
          <p:nvSpPr>
            <p:cNvPr id="42" name="AutoShape 24"/>
            <p:cNvSpPr/>
            <p:nvPr/>
          </p:nvSpPr>
          <p:spPr>
            <a:xfrm rot="10800000">
              <a:off x="120600" y="6440400"/>
              <a:ext cx="8964720" cy="287280"/>
            </a:xfrm>
            <a:custGeom>
              <a:avLst/>
              <a:gdLst>
                <a:gd name="textAreaLeft" fmla="*/ 821880 w 8964720"/>
                <a:gd name="textAreaRight" fmla="*/ 8142840 w 8964720"/>
                <a:gd name="textAreaTop" fmla="*/ 27000 h 287280"/>
                <a:gd name="textAreaBottom" fmla="*/ 26028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19"/>
            <p:cNvSpPr/>
            <p:nvPr/>
          </p:nvSpPr>
          <p:spPr>
            <a:xfrm>
              <a:off x="250920" y="101520"/>
              <a:ext cx="8713800" cy="64087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20"/>
            <p:cNvSpPr/>
            <p:nvPr/>
          </p:nvSpPr>
          <p:spPr>
            <a:xfrm>
              <a:off x="250920" y="101520"/>
              <a:ext cx="8713800" cy="144720"/>
            </a:xfrm>
            <a:custGeom>
              <a:avLst/>
              <a:gdLst>
                <a:gd name="textAreaLeft" fmla="*/ 798120 w 8713800"/>
                <a:gd name="textAreaRight" fmla="*/ 7915680 w 8713800"/>
                <a:gd name="textAreaTop" fmla="*/ 12600 h 144720"/>
                <a:gd name="textAreaBottom" fmla="*/ 132120 h 14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21"/>
            <p:cNvSpPr/>
            <p:nvPr/>
          </p:nvSpPr>
          <p:spPr>
            <a:xfrm rot="10800000">
              <a:off x="250560" y="6365520"/>
              <a:ext cx="8713800" cy="144360"/>
            </a:xfrm>
            <a:custGeom>
              <a:avLst/>
              <a:gdLst>
                <a:gd name="textAreaLeft" fmla="*/ 798120 w 8713800"/>
                <a:gd name="textAreaRight" fmla="*/ 7915680 w 871380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22"/>
            <p:cNvSpPr/>
            <p:nvPr/>
          </p:nvSpPr>
          <p:spPr>
            <a:xfrm rot="5400000">
              <a:off x="5701320" y="3247200"/>
              <a:ext cx="6394320" cy="131760"/>
            </a:xfrm>
            <a:custGeom>
              <a:avLst/>
              <a:gdLst>
                <a:gd name="textAreaLeft" fmla="*/ 599760 w 6394320"/>
                <a:gd name="textAreaRight" fmla="*/ 5794560 w 6394320"/>
                <a:gd name="textAreaTop" fmla="*/ 12600 h 131760"/>
                <a:gd name="textAreaBottom" fmla="*/ 1191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" y="21600"/>
                  </a:lnTo>
                  <a:lnTo>
                    <a:pt x="2114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23"/>
            <p:cNvSpPr/>
            <p:nvPr/>
          </p:nvSpPr>
          <p:spPr>
            <a:xfrm rot="16200000">
              <a:off x="-2870640" y="3235680"/>
              <a:ext cx="6375240" cy="131760"/>
            </a:xfrm>
            <a:custGeom>
              <a:avLst/>
              <a:gdLst>
                <a:gd name="textAreaLeft" fmla="*/ 583920 w 6375240"/>
                <a:gd name="textAreaRight" fmla="*/ 5791320 w 6375240"/>
                <a:gd name="textAreaTop" fmla="*/ 12600 h 131760"/>
                <a:gd name="textAreaBottom" fmla="*/ 11916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25"/>
            <p:cNvSpPr/>
            <p:nvPr/>
          </p:nvSpPr>
          <p:spPr>
            <a:xfrm rot="10800000">
              <a:off x="73080" y="6595920"/>
              <a:ext cx="9036000" cy="146160"/>
            </a:xfrm>
            <a:custGeom>
              <a:avLst/>
              <a:gdLst>
                <a:gd name="textAreaLeft" fmla="*/ 860400 w 9036000"/>
                <a:gd name="textAreaRight" fmla="*/ 8175600 w 9036000"/>
                <a:gd name="textAreaTop" fmla="*/ 14040 h 146160"/>
                <a:gd name="textAreaBottom" fmla="*/ 132120 h 14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2" y="21600"/>
                  </a:lnTo>
                  <a:lnTo>
                    <a:pt x="2108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33"/>
          <p:cNvGrpSpPr/>
          <p:nvPr/>
        </p:nvGrpSpPr>
        <p:grpSpPr>
          <a:xfrm>
            <a:off x="7236000" y="6165720"/>
            <a:ext cx="792000" cy="432000"/>
            <a:chOff x="7236000" y="6165720"/>
            <a:chExt cx="792000" cy="432000"/>
          </a:xfrm>
        </p:grpSpPr>
        <p:sp>
          <p:nvSpPr>
            <p:cNvPr id="50" name="Rectangle 28"/>
            <p:cNvSpPr/>
            <p:nvPr/>
          </p:nvSpPr>
          <p:spPr>
            <a:xfrm>
              <a:off x="7236000" y="6165720"/>
              <a:ext cx="792000" cy="4320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29"/>
            <p:cNvSpPr/>
            <p:nvPr/>
          </p:nvSpPr>
          <p:spPr>
            <a:xfrm>
              <a:off x="7308720" y="6237360"/>
              <a:ext cx="648000" cy="288720"/>
            </a:xfrm>
            <a:prstGeom prst="roundRect">
              <a:avLst>
                <a:gd name="adj" fmla="val 16667"/>
              </a:avLst>
            </a:prstGeom>
            <a:solidFill>
              <a:srgbClr val="9933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30"/>
            <p:cNvSpPr/>
            <p:nvPr/>
          </p:nvSpPr>
          <p:spPr>
            <a:xfrm>
              <a:off x="7308720" y="6308640"/>
              <a:ext cx="64800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31"/>
            <p:cNvSpPr/>
            <p:nvPr/>
          </p:nvSpPr>
          <p:spPr>
            <a:xfrm>
              <a:off x="7308720" y="6381720"/>
              <a:ext cx="64800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32"/>
            <p:cNvSpPr/>
            <p:nvPr/>
          </p:nvSpPr>
          <p:spPr>
            <a:xfrm>
              <a:off x="7308720" y="6453360"/>
              <a:ext cx="648000" cy="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AutoShape 34"/>
          <p:cNvSpPr/>
          <p:nvPr/>
        </p:nvSpPr>
        <p:spPr>
          <a:xfrm rot="16200000">
            <a:off x="6570720" y="6397560"/>
            <a:ext cx="69840" cy="324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ffff"/>
              </a:gs>
              <a:gs pos="50000">
                <a:srgbClr val="d2d2d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1"/>
          <p:cNvPicPr/>
          <p:nvPr/>
        </p:nvPicPr>
        <p:blipFill>
          <a:blip r:embed="rId1"/>
          <a:stretch/>
        </p:blipFill>
        <p:spPr>
          <a:xfrm>
            <a:off x="2843280" y="1700280"/>
            <a:ext cx="374472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致青春.mp3" descr=""/>
          <p:cNvPicPr/>
          <p:nvPr/>
        </p:nvPicPr>
        <p:blipFill>
          <a:blip r:embed="rId2"/>
          <a:stretch/>
        </p:blipFill>
        <p:spPr>
          <a:xfrm>
            <a:off x="-541440" y="-15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6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55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55">
                                  <p:stCondLst>
                                    <p:cond delay="8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56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5E-006 -2.96296E-006 L 0.36233 -0.34097 E">
                                      <p:cBhvr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950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11000"/>
                                  </p:stCondLst>
                                  <p:childTnLst>
                                    <p:animScale>
                                      <p:cBhvr>
                                        <p:cTn id="49" dur="5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1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11905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0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201304251005444354"/>
          <p:cNvPicPr/>
          <p:nvPr/>
        </p:nvPicPr>
        <p:blipFill>
          <a:blip r:embed="rId2"/>
          <a:stretch/>
        </p:blipFill>
        <p:spPr>
          <a:xfrm>
            <a:off x="1979640" y="1413000"/>
            <a:ext cx="5256360" cy="3763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3"/>
          <p:cNvSpPr/>
          <p:nvPr/>
        </p:nvSpPr>
        <p:spPr>
          <a:xfrm>
            <a:off x="3116160" y="550152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青春是有限的，不能在犹豫和观望中度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1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119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Img367284140"/>
          <p:cNvPicPr/>
          <p:nvPr/>
        </p:nvPicPr>
        <p:blipFill>
          <a:blip r:embed="rId2"/>
          <a:stretch/>
        </p:blipFill>
        <p:spPr>
          <a:xfrm>
            <a:off x="152280" y="1557360"/>
            <a:ext cx="3057480" cy="3816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1078d2e624b91297bb654b"/>
          <p:cNvPicPr/>
          <p:nvPr/>
        </p:nvPicPr>
        <p:blipFill>
          <a:blip r:embed="rId3"/>
          <a:stretch/>
        </p:blipFill>
        <p:spPr>
          <a:xfrm>
            <a:off x="3355920" y="1557360"/>
            <a:ext cx="2728800" cy="381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e840f23d2d241298f68d06"/>
          <p:cNvPicPr/>
          <p:nvPr/>
        </p:nvPicPr>
        <p:blipFill>
          <a:blip r:embed="rId4"/>
          <a:stretch/>
        </p:blipFill>
        <p:spPr>
          <a:xfrm>
            <a:off x="6235560" y="1557360"/>
            <a:ext cx="2729160" cy="3816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287280" y="5801040"/>
            <a:ext cx="867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年意气的时候我觉得有很多东西比感情更重要，后来才发现我们能记住的偏偏只是一些小的幸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1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1190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358920" y="375768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一生里有可能遇到很多人，有时正好同路，就会在一起走一段，直到我们遇到了真正想要共度一生的那个人，才会把余下的旅途全部交给交给这个人，结伴一起到终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6"/>
          <p:cNvGrpSpPr/>
          <p:nvPr/>
        </p:nvGrpSpPr>
        <p:grpSpPr>
          <a:xfrm>
            <a:off x="-33880320" y="1700280"/>
            <a:ext cx="33707160" cy="3119400"/>
            <a:chOff x="-33880320" y="1700280"/>
            <a:chExt cx="33707160" cy="3119400"/>
          </a:xfrm>
        </p:grpSpPr>
        <p:pic>
          <p:nvPicPr>
            <p:cNvPr id="72" name="Picture 9" descr="p1940372521"/>
            <p:cNvPicPr/>
            <p:nvPr/>
          </p:nvPicPr>
          <p:blipFill>
            <a:blip r:embed="rId2"/>
            <a:stretch/>
          </p:blipFill>
          <p:spPr>
            <a:xfrm>
              <a:off x="-5887800" y="1771560"/>
              <a:ext cx="571464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10" descr="150749591"/>
            <p:cNvPicPr/>
            <p:nvPr/>
          </p:nvPicPr>
          <p:blipFill>
            <a:blip r:embed="rId3"/>
            <a:stretch/>
          </p:blipFill>
          <p:spPr>
            <a:xfrm>
              <a:off x="-10280520" y="1757160"/>
              <a:ext cx="4320720" cy="304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11" descr="4ec2d5628535e5dd6026908277c6a7efce1b6260"/>
            <p:cNvPicPr/>
            <p:nvPr/>
          </p:nvPicPr>
          <p:blipFill>
            <a:blip r:embed="rId4"/>
            <a:stretch/>
          </p:blipFill>
          <p:spPr>
            <a:xfrm>
              <a:off x="-17444880" y="1771560"/>
              <a:ext cx="7092360" cy="301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12" descr="rdn_50e6499a9a3db"/>
            <p:cNvPicPr/>
            <p:nvPr/>
          </p:nvPicPr>
          <p:blipFill>
            <a:blip r:embed="rId5"/>
            <a:stretch/>
          </p:blipFill>
          <p:spPr>
            <a:xfrm>
              <a:off x="-25833240" y="1771560"/>
              <a:ext cx="5903640" cy="30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3" descr="131038xudnubzifidwpifu"/>
            <p:cNvPicPr/>
            <p:nvPr/>
          </p:nvPicPr>
          <p:blipFill>
            <a:blip r:embed="rId6"/>
            <a:stretch/>
          </p:blipFill>
          <p:spPr>
            <a:xfrm>
              <a:off x="-33880320" y="1700280"/>
              <a:ext cx="5238360" cy="305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14" descr="ae1e541ajw1e2n58nfrx3j"/>
            <p:cNvPicPr/>
            <p:nvPr/>
          </p:nvPicPr>
          <p:blipFill>
            <a:blip r:embed="rId7"/>
            <a:stretch/>
          </p:blipFill>
          <p:spPr>
            <a:xfrm>
              <a:off x="-28530360" y="1700280"/>
              <a:ext cx="255240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15" descr="20130427150520539"/>
            <p:cNvPicPr/>
            <p:nvPr/>
          </p:nvPicPr>
          <p:blipFill>
            <a:blip r:embed="rId8"/>
            <a:stretch/>
          </p:blipFill>
          <p:spPr>
            <a:xfrm>
              <a:off x="-19827720" y="1771560"/>
              <a:ext cx="2274480" cy="3024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4.81111 -0.04792 E">
                                      <p:cBhvr>
                                        <p:cTn id="91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1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11905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24000" y="551556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见鬼去吧，什么终将逝去的青春，我赌一次永恒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546_121102151952_1"/>
          <p:cNvPicPr/>
          <p:nvPr/>
        </p:nvPicPr>
        <p:blipFill>
          <a:blip r:embed="rId2"/>
          <a:srcRect l="0" t="15609" r="0" b="17236"/>
          <a:stretch/>
        </p:blipFill>
        <p:spPr>
          <a:xfrm>
            <a:off x="2278080" y="1557360"/>
            <a:ext cx="4525920" cy="341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6"/>
          <p:cNvSpPr/>
          <p:nvPr/>
        </p:nvSpPr>
        <p:spPr>
          <a:xfrm>
            <a:off x="-252360" y="-171360"/>
            <a:ext cx="9577440" cy="7272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3357720"/>
            <a:ext cx="9144000" cy="3500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8"/>
          <p:cNvGrpSpPr/>
          <p:nvPr/>
        </p:nvGrpSpPr>
        <p:grpSpPr>
          <a:xfrm>
            <a:off x="-1295640" y="-747720"/>
            <a:ext cx="11554920" cy="8490960"/>
            <a:chOff x="-1295640" y="-747720"/>
            <a:chExt cx="11554920" cy="8490960"/>
          </a:xfrm>
        </p:grpSpPr>
        <p:sp>
          <p:nvSpPr>
            <p:cNvPr id="86" name="AutoShape 9"/>
            <p:cNvSpPr/>
            <p:nvPr/>
          </p:nvSpPr>
          <p:spPr>
            <a:xfrm rot="10800000">
              <a:off x="-1234440" y="7357680"/>
              <a:ext cx="11463840" cy="367200"/>
            </a:xfrm>
            <a:custGeom>
              <a:avLst/>
              <a:gdLst>
                <a:gd name="textAreaLeft" fmla="*/ 1051200 w 11463840"/>
                <a:gd name="textAreaRight" fmla="*/ 10412640 w 11463840"/>
                <a:gd name="textAreaTop" fmla="*/ 34200 h 367200"/>
                <a:gd name="textAreaBottom" fmla="*/ 333000 h 36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0"/>
            <p:cNvSpPr/>
            <p:nvPr/>
          </p:nvSpPr>
          <p:spPr>
            <a:xfrm>
              <a:off x="-1067760" y="-747720"/>
              <a:ext cx="11143080" cy="81950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AutoShape 11"/>
            <p:cNvSpPr/>
            <p:nvPr/>
          </p:nvSpPr>
          <p:spPr>
            <a:xfrm>
              <a:off x="-1067760" y="-747720"/>
              <a:ext cx="11143080" cy="185040"/>
            </a:xfrm>
            <a:custGeom>
              <a:avLst/>
              <a:gdLst>
                <a:gd name="textAreaLeft" fmla="*/ 1020960 w 11143080"/>
                <a:gd name="textAreaRight" fmla="*/ 10122120 w 11143080"/>
                <a:gd name="textAreaTop" fmla="*/ 16200 h 185040"/>
                <a:gd name="textAreaBottom" fmla="*/ 168840 h 18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12"/>
            <p:cNvSpPr/>
            <p:nvPr/>
          </p:nvSpPr>
          <p:spPr>
            <a:xfrm rot="10800000">
              <a:off x="-1068120" y="7262280"/>
              <a:ext cx="11143080" cy="184320"/>
            </a:xfrm>
            <a:custGeom>
              <a:avLst/>
              <a:gdLst>
                <a:gd name="textAreaLeft" fmla="*/ 1020960 w 11143080"/>
                <a:gd name="textAreaRight" fmla="*/ 10122120 w 11143080"/>
                <a:gd name="textAreaTop" fmla="*/ 16200 h 184320"/>
                <a:gd name="textAreaBottom" fmla="*/ 168120 h 1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3"/>
            <p:cNvSpPr/>
            <p:nvPr/>
          </p:nvSpPr>
          <p:spPr>
            <a:xfrm rot="5400000">
              <a:off x="5904000" y="3273120"/>
              <a:ext cx="8174520" cy="170280"/>
            </a:xfrm>
            <a:custGeom>
              <a:avLst/>
              <a:gdLst>
                <a:gd name="textAreaLeft" fmla="*/ 767520 w 8174520"/>
                <a:gd name="textAreaRight" fmla="*/ 7407000 w 8174520"/>
                <a:gd name="textAreaTop" fmla="*/ 16200 h 170280"/>
                <a:gd name="textAreaBottom" fmla="*/ 154080 h 17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51" y="21600"/>
                  </a:lnTo>
                  <a:lnTo>
                    <a:pt x="21149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AutoShape 14"/>
            <p:cNvSpPr/>
            <p:nvPr/>
          </p:nvSpPr>
          <p:spPr>
            <a:xfrm rot="16200000">
              <a:off x="-5061240" y="3262680"/>
              <a:ext cx="8152200" cy="168480"/>
            </a:xfrm>
            <a:custGeom>
              <a:avLst/>
              <a:gdLst>
                <a:gd name="textAreaLeft" fmla="*/ 746640 w 8152200"/>
                <a:gd name="textAreaRight" fmla="*/ 7405560 w 8152200"/>
                <a:gd name="textAreaTop" fmla="*/ 16200 h 168480"/>
                <a:gd name="textAreaBottom" fmla="*/ 152280 h 16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62" y="21600"/>
                  </a:lnTo>
                  <a:lnTo>
                    <a:pt x="2123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AutoShape 15"/>
            <p:cNvSpPr/>
            <p:nvPr/>
          </p:nvSpPr>
          <p:spPr>
            <a:xfrm rot="10800000">
              <a:off x="-1295640" y="7556040"/>
              <a:ext cx="11554920" cy="186840"/>
            </a:xfrm>
            <a:custGeom>
              <a:avLst/>
              <a:gdLst>
                <a:gd name="textAreaLeft" fmla="*/ 1100160 w 11554920"/>
                <a:gd name="textAreaRight" fmla="*/ 10454760 w 11554920"/>
                <a:gd name="textAreaTop" fmla="*/ 18000 h 186840"/>
                <a:gd name="textAreaBottom" fmla="*/ 16884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12" y="21600"/>
                  </a:lnTo>
                  <a:lnTo>
                    <a:pt x="21088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2c2c2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4" descr="1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119052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19"/>
          <p:cNvGrpSpPr/>
          <p:nvPr/>
        </p:nvGrpSpPr>
        <p:grpSpPr>
          <a:xfrm>
            <a:off x="7308720" y="5229360"/>
            <a:ext cx="865080" cy="865080"/>
            <a:chOff x="7308720" y="5229360"/>
            <a:chExt cx="865080" cy="865080"/>
          </a:xfrm>
        </p:grpSpPr>
        <p:sp>
          <p:nvSpPr>
            <p:cNvPr id="95" name="Rectangle 17"/>
            <p:cNvSpPr/>
            <p:nvPr/>
          </p:nvSpPr>
          <p:spPr>
            <a:xfrm>
              <a:off x="7308720" y="5229360"/>
              <a:ext cx="863640" cy="86364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"/>
            <p:cNvPicPr/>
            <p:nvPr/>
          </p:nvPicPr>
          <p:blipFill>
            <a:blip r:embed="rId2"/>
            <a:stretch/>
          </p:blipFill>
          <p:spPr>
            <a:xfrm>
              <a:off x="7308720" y="5229360"/>
              <a:ext cx="86508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85185E-006 L -0.38194 0.36459 E">
                                      <p:cBhvr>
                                        <p:cTn id="116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2T01:37:28Z</dcterms:created>
  <dc:creator>1</dc:creator>
  <dc:description/>
  <dc:language>en-US</dc:language>
  <cp:lastModifiedBy>Administrator</cp:lastModifiedBy>
  <dcterms:modified xsi:type="dcterms:W3CDTF">2015-06-18T02:00:59Z</dcterms:modified>
  <cp:revision>20</cp:revision>
  <dc:subject/>
  <dc:title>幻灯片 1</dc:title>
</cp:coreProperties>
</file>